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EB0-BB2D-409B-9A27-04BBD54F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4E3-FA1D-4A47-9E66-FCC44193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698-D12F-43B7-A6BA-C95C25EC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EC8-EA30-4A21-AA66-887E49BA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E26D-894E-4D9C-BCCD-24EC16BB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9B77-A8F7-44B3-AB01-6E269488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4A8C-37AB-4DB5-A9E7-44600003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FEF7-C23F-4B20-A842-75C914E8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CA33-5C0C-48FD-A787-C6E96BB5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65C3-7FB9-407C-983E-6894A2EE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7EB8-F4AB-417F-A65E-BE82FA6A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A86-9846-4509-B5A8-0A5294F3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F709-9718-414C-8A0A-76641933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0E9A-E18B-4548-B1E9-68DB1892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DF4A-2F05-429F-9076-0FA9E13A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AD3A-2542-4D68-ADE6-103E970B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3CF0-3EB9-461D-8267-35ADFDC6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346-E08C-471A-9228-5DE8707B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4A3-DA44-41BA-81CF-2F64D0FA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283-9EA5-436D-9840-1C2D79C2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57D-1267-45D0-B18C-542E5875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F91-F20E-4156-8C9F-EA9FC6E8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33B-79F4-4570-A535-DDB4FF7E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552-5DD6-49C1-9840-A331B863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73D3-BF3C-4CC0-B207-5B5B3C9BE0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325E-58EA-4272-96E6-EC8911B7E3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УКА ЗАПОСЛЕНИХ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дентификовање потреба за обу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личити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ниво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дентификовања потреба за обук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Организацио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а за обуком на нивоу 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радног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Индивидуал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Груп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дентификовање потреба за обу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Метод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дентификовања потреба за обук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мат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нтервју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ређење перформан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нализа садржаја по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ефинисање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циље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б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програма обу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 групе програма обу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ич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хнич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нања: руковање машинама и опре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терперсонал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пособности: комуникација, тимски рад, прегова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цептуално – интегратив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пособности: планирање, одлучивање, делег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програма обу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грами обуке прем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етод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Информацио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ет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Експериментал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ет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грами обуке прем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есту одржав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На радном ме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У организацији ван радног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Ван орган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рганизација програма обу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5 модел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Функционални мо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упац модел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Матрични мо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Модел корпоративног универзите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Виртуелна тренинг орган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знање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2 типа зн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мплици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Ескплицит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4 начина размене (конверзије) зн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Социј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нтерн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Екстерн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Комбинац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обуке запослених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рсте евал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напређење процеса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тицај на понашање и перформан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ритеријуми евал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н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ештине и понаш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тавови и мотив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езул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нос на ангажовања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4T06:45:02Z</dcterms:modified>
  <cp:revision>167</cp:revision>
  <dc:subject/>
  <dc:title>Soft and Hard Skills Development: A Current Situation in Serbian Companies</dc:title>
</cp:coreProperties>
</file>